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4A7-1C81-47B1-8D3E-E2069D64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47C-96A0-41FA-A91D-738A8E43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AD5-4E31-4DBE-9B64-1B3CB94A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55A-1EF2-4315-8A3B-A1DF7D0F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EEA-FD89-4457-AEBD-987CFD21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3C6-6147-4075-943E-F1E5EE7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683-AFAC-418B-B22C-A41E9E4A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2D7-E700-4896-AEA4-DEACF358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830-BC21-4C47-82B9-5D260EAE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6D2-34C4-45F8-A647-86A99679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02E-45D8-4F6E-9339-67175A6E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A25-B0CB-41EF-B724-99DF430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04FC-39ED-4790-B5C8-436F7BCEB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= Emo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17680" y="1434960"/>
            <a:ext cx="8245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expressions require a change of su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egrarse de que = to be happy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tir que = to regret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rar que = to hop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er que = to fear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er miedo de que = to be afra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starle que = to lik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rprenderle que = to surpris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antarle que = to lov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ojarle que = to be angry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arle que = to irritat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estarle que to b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fadarle que = to be angry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r orgulloso/a de que= to be proud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5257800" y="167652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 alegro de que Uds. hagan la t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032800" y="251460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nto que mi madre sea f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5185080" y="327672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o que Santa no ven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4803840" y="388620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 gusta que Uds. tomen apu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089680" y="4227480"/>
            <a:ext cx="374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 sorprende que el director de la escuela sepa bai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4185720" y="5181480"/>
            <a:ext cx="47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 irrita que la clase haga mucho ru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 las frases: Es triste que, Es feliz que, Me enoja que, Temo que, Me alegro de que, Siento que, etc. para responder. Remember to only use subjunctive with a change of subjec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i mejor amigo miente a v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epe gana la carrera (r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Un ladrón entra en mi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is padres me dan un carro nue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Mi abuela está enfe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Mi hermanito es mimado (spoil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Tengo que regresar a casa a las diez de la noche los vier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Martín tiene que trabajar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Irene no tiene am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Ricardo habla demasiado (too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4:30:08Z</dcterms:created>
  <dc:creator>Norwood Public Schools</dc:creator>
  <dc:description/>
  <dc:language>en-US</dc:language>
  <cp:lastModifiedBy>Jessica Kaplan</cp:lastModifiedBy>
  <dcterms:modified xsi:type="dcterms:W3CDTF">2013-02-25T16:52:02Z</dcterms:modified>
  <cp:revision>12</cp:revision>
  <dc:subject/>
  <dc:title>E= Emociones</dc:title>
</cp:coreProperties>
</file>